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0E5D-60AA-4BE8-9DCB-3C03341EC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569-2D05-4BB9-97B1-FE139A48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ED9-3D7D-4CA5-BF33-5230078C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D72-6C62-4883-A2D4-F42934FE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E5C-55B9-4C60-B1ED-18D041B3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CEB-138A-456F-9C13-100BD227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C16-6798-429C-9D36-02035309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6A6-D7CB-4DCA-866E-8DFC0EA8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AAA-C77A-4E6D-A92B-7E475989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6E78-DAFC-4B1B-80A9-8F6C3ED7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201-F187-4FED-82B1-3A1A13B5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55E-C375-45D0-9F77-9A56FC23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3A2-0C54-49BC-94E6-AD9F1302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1A53-47C5-41D4-A823-B312B0EBD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pqr"/>
          <p:cNvPicPr/>
          <p:nvPr/>
        </p:nvPicPr>
        <p:blipFill>
          <a:blip r:embed="rId1"/>
          <a:stretch/>
        </p:blipFill>
        <p:spPr>
          <a:xfrm>
            <a:off x="1828800" y="2514600"/>
            <a:ext cx="5562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oman Expansion (in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quest of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k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ranted full or partial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x and leg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ed loyalty in conquered Itali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sion by King Pyrrhus (pyrrhic vi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ablished in strategic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ed by tre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oops sent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ustoms of the area left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nies were mostly for trade, with some milita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exp1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exp5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lp of non-Roman Italian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ap_punic_wars.gif"/>
          <p:cNvPicPr/>
          <p:nvPr/>
        </p:nvPicPr>
        <p:blipFill>
          <a:blip r:embed="rId1"/>
          <a:stretch/>
        </p:blipFill>
        <p:spPr>
          <a:xfrm>
            <a:off x="3809880" y="1195560"/>
            <a:ext cx="5334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ies rather than servants or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st, direct attacks with strong determination and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xp12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 of the "empir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a republican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arties e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res (conservatives, Cato and Cic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res (power to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(according to the Ro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ug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gre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ghteous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o"/>
          <p:cNvPicPr/>
          <p:nvPr/>
        </p:nvPicPr>
        <p:blipFill>
          <a:blip r:embed="rId1"/>
          <a:stretch/>
        </p:blipFill>
        <p:spPr>
          <a:xfrm>
            <a:off x="7086600" y="3352680"/>
            <a:ext cx="1857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ce of men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gained econom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divorce and retai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als eventually eroded, in part because home-life er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irl_peplos2"/>
          <p:cNvPicPr/>
          <p:nvPr/>
        </p:nvPicPr>
        <p:blipFill>
          <a:blip r:embed="rId1"/>
          <a:stretch/>
        </p:blipFill>
        <p:spPr>
          <a:xfrm>
            <a:off x="6400800" y="12193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s increas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the number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ituted 40%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er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ans feared slave up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aves took jobs from the plebs so plebs were given food and other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laves2"/>
          <p:cNvPicPr/>
          <p:nvPr/>
        </p:nvPicPr>
        <p:blipFill>
          <a:blip r:embed="rId1"/>
          <a:srcRect l="0" t="2520" r="0" b="4401"/>
          <a:stretch/>
        </p:blipFill>
        <p:spPr>
          <a:xfrm>
            <a:off x="5257800" y="1676520"/>
            <a:ext cx="3733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army to override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Julius Caes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00-44 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n to aristocratic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end that he descended from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for partying and sexual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d by pirates and held for ran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ed to area and killed pi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ointed to a series of governme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e of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ulcaes"/>
          <p:cNvPicPr/>
          <p:nvPr/>
        </p:nvPicPr>
        <p:blipFill>
          <a:blip r:embed="rId1"/>
          <a:srcRect l="0" t="3231" r="6104" b="3231"/>
          <a:stretch/>
        </p:blipFill>
        <p:spPr>
          <a:xfrm>
            <a:off x="701028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umvi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ised for his work i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governor in Gaul (con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iance with Crassus and Pompey to form the triumvirate (not initially, but later el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alry with Pompey after death of Cra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ing the Rub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rising in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ni, vidi, vici—I came, I saw, I conqu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s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op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caesar_coin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ed to Rome as a conquering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on for each territory on a different day (Gaul, Africa, Spain, Asia) and games for many additio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crown (as emperor) twice and refused it when people didn't respond favo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or (rule by one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for 10 years and then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’s plans for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endar (Ju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, theaters, other publi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citizenship to people in Spain and G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ale of Aene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Aene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o at Carthage and other travels (lik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al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lements from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eneid"/>
          <p:cNvPicPr/>
          <p:nvPr/>
        </p:nvPicPr>
        <p:blipFill>
          <a:blip r:embed="rId1"/>
          <a:stretch/>
        </p:blipFill>
        <p:spPr>
          <a:xfrm>
            <a:off x="1523880" y="2971800"/>
            <a:ext cx="6019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rder of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ed by senatorial op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gated by his usurpation of power and their fear that he would become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d March 15, 44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bed by 20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utus—illegitimate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Anthony and Oct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llied against the conspi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romanhist10"/>
          <p:cNvPicPr/>
          <p:nvPr/>
        </p:nvPicPr>
        <p:blipFill>
          <a:blip r:embed="rId1"/>
          <a:stretch/>
        </p:blipFill>
        <p:spPr>
          <a:xfrm>
            <a:off x="5435640" y="1066680"/>
            <a:ext cx="3351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used to eliminate enemies and impose one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c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 and 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, use of the army to override councils, 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e conquered Greece 150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s took on much Greek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and goddesses parall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had Indo-Europea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RomanWorld133BC-display"/>
          <p:cNvPicPr/>
          <p:nvPr/>
        </p:nvPicPr>
        <p:blipFill>
          <a:blip r:embed="rId1"/>
          <a:srcRect l="1453" t="1912" r="1093" b="12539"/>
          <a:stretch/>
        </p:blipFill>
        <p:spPr>
          <a:xfrm>
            <a:off x="304920" y="228600"/>
            <a:ext cx="8534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n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over other powers and then direct conquest to subdue the local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continued throug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public and empire peri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asterix"/>
          <p:cNvPicPr/>
          <p:nvPr/>
        </p:nvPicPr>
        <p:blipFill>
          <a:blip r:embed="rId1"/>
          <a:stretch/>
        </p:blipFill>
        <p:spPr>
          <a:xfrm>
            <a:off x="6473880" y="3429000"/>
            <a:ext cx="2450880" cy="322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3553200" y="5029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terix and Obel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enough land to support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mers were needed and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sition of wheat and other foods became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ory over Carthage provided mor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was a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ng profits made many Roman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s of wealth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s did not have to pa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abine-women"/>
          <p:cNvPicPr/>
          <p:nvPr/>
        </p:nvPicPr>
        <p:blipFill>
          <a:blip r:embed="rId1"/>
          <a:stretch/>
        </p:blipFill>
        <p:spPr>
          <a:xfrm>
            <a:off x="1752480" y="2895480"/>
            <a:ext cx="5067360" cy="3740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against the Latins (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lli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of the Sabine Wo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City (Kingdom)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ulus and Re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in princess was Vestal vi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ed by Mars, bore twin bo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ed killed by non-Latin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kled by a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w and founded a city (753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ulus killed Re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truscans conquered the Romans (non-Latin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s eventually overthrew Etruscans and established king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ins of home of king (Romulus?) date from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c1"/>
          <p:cNvPicPr/>
          <p:nvPr/>
        </p:nvPicPr>
        <p:blipFill>
          <a:blip r:embed="rId1"/>
          <a:srcRect l="1917" t="11720" r="6006" b="8280"/>
          <a:stretch/>
        </p:blipFill>
        <p:spPr>
          <a:xfrm>
            <a:off x="5257800" y="2362320"/>
            <a:ext cx="3657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ries became legends for Romans throughout thei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e image “http://www.louvre.fr/img/photos/collec/peint/grande/inv369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Republic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d by a senate and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QR= Senate and the People of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(patricians) appointed consu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ign affairs and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access by the people to the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(plebs) organized by tribes and they elected 10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ed loc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d veto pow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divid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PQR"/>
          <p:cNvPicPr/>
          <p:nvPr/>
        </p:nvPicPr>
        <p:blipFill>
          <a:blip r:embed="rId1"/>
          <a:srcRect l="14584" t="15060" r="13543" b="6683"/>
          <a:stretch/>
        </p:blipFill>
        <p:spPr>
          <a:xfrm>
            <a:off x="5791320" y="4381560"/>
            <a:ext cx="3352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Constitution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(balanced pow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made laws but advice was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d power to appoint a person to solve a specific problem (He was a "speaker" or "dic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censors (moral guardian/rank ju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gover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cilium pl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aws (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ebeci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magistrates (administrators) and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mitia Curiata/Centuriata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bs and 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t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ilitary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et in the forum (looked over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ontifex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enate"/>
          <p:cNvPicPr/>
          <p:nvPr/>
        </p:nvPicPr>
        <p:blipFill>
          <a:blip r:embed="rId1"/>
          <a:stretch/>
        </p:blipFill>
        <p:spPr>
          <a:xfrm>
            <a:off x="5181480" y="152280"/>
            <a:ext cx="3753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s with U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and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 (= 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bune (veto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(indepen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itary powe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so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U"/>
          <p:cNvPicPr/>
          <p:nvPr/>
        </p:nvPicPr>
        <p:blipFill>
          <a:blip r:embed="rId1"/>
          <a:stretch/>
        </p:blipFill>
        <p:spPr>
          <a:xfrm>
            <a:off x="5638680" y="4300560"/>
            <a:ext cx="3276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Milita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19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uries — 100 armed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ed by Centurian (from the ra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ples—3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move quickly through difficult terrain (better than phala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decisions (tribu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ions—groups of Man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ed by light ca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for individual insub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mation for cowar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aesar-m"/>
          <p:cNvPicPr/>
          <p:nvPr/>
        </p:nvPicPr>
        <p:blipFill>
          <a:blip r:embed="rId1"/>
          <a:stretch/>
        </p:blipFill>
        <p:spPr>
          <a:xfrm>
            <a:off x="6324480" y="1295280"/>
            <a:ext cx="25401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31:48Z</dcterms:created>
  <dc:creator>strongb</dc:creator>
  <dc:description/>
  <dc:language>en-US</dc:language>
  <cp:lastModifiedBy>LEGION</cp:lastModifiedBy>
  <dcterms:modified xsi:type="dcterms:W3CDTF">2017-07-03T09:57:17Z</dcterms:modified>
  <cp:revision>43</cp:revision>
  <dc:subject/>
  <dc:title>Corporate Creativity</dc:title>
</cp:coreProperties>
</file>